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D10-8746-4642-9393-ADAC1157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5A3-49F0-4C0D-B3C8-1DC5A755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ECE-D115-48F2-8184-B0844018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018-516F-41A9-A90B-59D294D0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F9C-065F-4175-BA8F-51C86071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19F-78A6-4DF3-8C90-E341A4A1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09F-FC93-4704-93A6-DB73BD83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589-3BF8-4E34-A1F6-5310E85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D4A-3F82-4D50-AC38-C2DAC586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388-46A6-4AB2-BBBF-BDCEDBE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E56-5F68-4CC5-B17D-EDAECB91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30B-EDC1-406B-99AA-64CBB85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05CE-F944-4E96-B22B-9FDAAA25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2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6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24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3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58.png"/><Relationship Id="rId27" Type="http://schemas.openxmlformats.org/officeDocument/2006/relationships/image" Target="../media/image59.png"/><Relationship Id="rId28" Type="http://schemas.openxmlformats.org/officeDocument/2006/relationships/image" Target="../media/image60.png"/><Relationship Id="rId29" Type="http://schemas.openxmlformats.org/officeDocument/2006/relationships/image" Target="../media/image61.png"/><Relationship Id="rId30" Type="http://schemas.openxmlformats.org/officeDocument/2006/relationships/image" Target="../media/image5.png"/><Relationship Id="rId31" Type="http://schemas.openxmlformats.org/officeDocument/2006/relationships/image" Target="../media/image2.png"/><Relationship Id="rId32" Type="http://schemas.openxmlformats.org/officeDocument/2006/relationships/image" Target="../media/image15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1.jpeg"/><Relationship Id="rId3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«Взгляд молодежи на роль государства в поддержке семьи и рождаемости»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 результатам Интернет-дискусс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анализа обсуждения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653000"/>
            <a:ext cx="792144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ся Кочк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 россий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ежных инициатив, работающих по принципу «равный-рав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1800360" cy="64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260280"/>
            <a:ext cx="849780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89000"/>
            <a:ext cx="864072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1563840" cy="2374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68360" y="692280"/>
            <a:ext cx="6266160" cy="3671640"/>
          </a:xfrm>
          <a:prstGeom prst="wedgeRoundRectCallout">
            <a:avLst>
              <a:gd name="adj1" fmla="val -58310"/>
              <a:gd name="adj2" fmla="val 70708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Молодежь не является меркантильной. Молодежь не рожает, так как нет сильной государственной политики в отношении молодых семей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51640" y="616572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260280"/>
            <a:ext cx="7777080" cy="6193080"/>
          </a:xfrm>
          <a:prstGeom prst="horizontalScroll">
            <a:avLst>
              <a:gd name="adj" fmla="val 12500"/>
            </a:avLst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колько детей ты хотел бы име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как будет в реаль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ты думаеш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чему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1412640" cy="2160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55640" y="476280"/>
            <a:ext cx="2879640" cy="1728720"/>
          </a:xfrm>
          <a:prstGeom prst="wedgeRoundRectCallout">
            <a:avLst>
              <a:gd name="adj1" fmla="val -27453"/>
              <a:gd name="adj2" fmla="val 88842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чу двоих, планирую осуществить это несмотря ни на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404640"/>
            <a:ext cx="6084720" cy="3600720"/>
          </a:xfrm>
          <a:prstGeom prst="irregularSeal2">
            <a:avLst/>
          </a:prstGeom>
          <a:solidFill>
            <a:srgbClr val="ffdb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олютное больш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ет иметь детей бол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думают, что у них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ально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1609920" cy="2462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95640" y="3933720"/>
            <a:ext cx="4824360" cy="2592360"/>
          </a:xfrm>
          <a:prstGeom prst="wedgeRoundRectCallout">
            <a:avLst>
              <a:gd name="adj1" fmla="val -74578"/>
              <a:gd name="adj2" fmla="val 13504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хотел бы иметь 3-х детей, или даже 4-х, а вот в реальности все не так просто. Все упирается в деньги, не каждая семья может себе позволить содержать даже одного ребе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189000"/>
            <a:ext cx="8424720" cy="1944720"/>
          </a:xfrm>
          <a:prstGeom prst="horizontalScroll">
            <a:avLst>
              <a:gd name="adj" fmla="val 12500"/>
            </a:avLst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, по вашему мнению, является наиболее важным для т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молодые могли родить и вырастить ребен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тметьте три наиболее важных аспекта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700280"/>
            <a:ext cx="8424720" cy="4968720"/>
          </a:xfrm>
          <a:prstGeom prst="horizontalScroll">
            <a:avLst>
              <a:gd name="adj" fmla="val 12500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бильная работа и дохо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ое жил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ая семья, официальный брак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ость детских садов и других услуг по уходу за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енные и доступные медицинские услу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ценное распределение семейны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супругами, в том числе обязан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оспитанию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пособия и льготы от государ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е (укажите, что именно)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95640" y="1341360"/>
            <a:ext cx="2232000" cy="460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бильн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охо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89000"/>
            <a:ext cx="864072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2852640"/>
            <a:ext cx="2089440" cy="309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ьное жиль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89360"/>
            <a:ext cx="3456000" cy="21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ая сем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ость детских са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ие услу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ценное распред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ных обяза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620640"/>
            <a:ext cx="2305080" cy="1871640"/>
          </a:xfrm>
          <a:prstGeom prst="cloudCallout">
            <a:avLst>
              <a:gd name="adj1" fmla="val -28995"/>
              <a:gd name="adj2" fmla="val 23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1271520" cy="1944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19280" y="549360"/>
            <a:ext cx="3240000" cy="2736720"/>
          </a:xfrm>
          <a:prstGeom prst="wedgeRoundRectCallout">
            <a:avLst>
              <a:gd name="adj1" fmla="val -69449"/>
              <a:gd name="adj2" fmla="val 44199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од "Стабильным доходом" я понимаю доход который позволяет снимать жилье или купить свое (в кредит, со сроком выплаты скажем в лет 15-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57200" y="2852640"/>
            <a:ext cx="1233720" cy="1871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692280"/>
            <a:ext cx="3745080" cy="3527280"/>
          </a:xfrm>
          <a:prstGeom prst="wedgeRoundRectCallout">
            <a:avLst>
              <a:gd name="adj1" fmla="val -123592"/>
              <a:gd name="adj2" fmla="val 40907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ля меня рождение ребенка сейчас нереально по следующим причинам: нет собственного жилья, затраты на работу-учебу слишком велики, доход сейчас только покрывает расхо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55640" y="4581360"/>
            <a:ext cx="1189080" cy="180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19640" y="3068640"/>
            <a:ext cx="3600360" cy="3384720"/>
          </a:xfrm>
          <a:prstGeom prst="wedgeRoundRectCallout">
            <a:avLst>
              <a:gd name="adj1" fmla="val -100046"/>
              <a:gd name="adj2" fmla="val 25092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етей пока нет, потому что нет жилья… Женщине на работу очень тяжело устроиться, т.к. нет детей. И компании отказывают именно по этой причине, столкнулась с этим лично... Государство совершенно не защищает женщин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71640" y="907920"/>
            <a:ext cx="6840360" cy="2594160"/>
          </a:xfrm>
          <a:prstGeom prst="wedgeRoundRectCallout">
            <a:avLst>
              <a:gd name="adj1" fmla="val -7180"/>
              <a:gd name="adj2" fmla="val 81152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У меня уже есть жилплощадь мною заработанная. Думаю, мне необходим для начала муж. Не хочется рожать по зал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ЕБЕНКА НАДО ПЛАНИРОВАТЬ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140360" y="3716280"/>
            <a:ext cx="141912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211640" y="4292640"/>
            <a:ext cx="139536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1280" y="765000"/>
            <a:ext cx="7921440" cy="3598920"/>
          </a:xfrm>
          <a:prstGeom prst="wedgeRoundRectCallout">
            <a:avLst>
              <a:gd name="adj1" fmla="val -560"/>
              <a:gd name="adj2" fmla="val 76157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еня материальная поддержка не подтолкнет, только социальная, а именно: чтобы ребенка можно было отдать в нормальную школу за приемлемые деньги и не страшно было одного выпустить на улицу и немаловажный фактор - медиц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71640" y="5445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476280"/>
            <a:ext cx="8353440" cy="1800360"/>
          </a:xfrm>
          <a:prstGeom prst="horizontalScroll">
            <a:avLst>
              <a:gd name="adj" fmla="val 12500"/>
            </a:avLst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акую помощь и от кого может и должна рассчиты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одая семья, принимая решение завести ребе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3068640"/>
            <a:ext cx="2521080" cy="2521080"/>
          </a:xfrm>
          <a:prstGeom prst="wedgeRoundRectCallout">
            <a:avLst>
              <a:gd name="adj1" fmla="val 60703"/>
              <a:gd name="adj2" fmla="val 68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мья должна рассчитывать на помощь государства, а может - только на себя и роди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067280" y="4581360"/>
            <a:ext cx="965160" cy="1130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59280" y="5300640"/>
            <a:ext cx="1168560" cy="1309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96000" y="2565360"/>
            <a:ext cx="3097080" cy="2808360"/>
          </a:xfrm>
          <a:prstGeom prst="wedgeRoundRectCallout">
            <a:avLst>
              <a:gd name="adj1" fmla="val -52407"/>
              <a:gd name="adj2" fmla="val 72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мья должна быть независима в денежном плане от родителей, а вот государство может и должно помогать молодой семье вставать на но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2133720"/>
            <a:ext cx="3097080" cy="2447640"/>
          </a:xfrm>
          <a:prstGeom prst="wedgeRoundRectCallout">
            <a:avLst>
              <a:gd name="adj1" fmla="val -333"/>
              <a:gd name="adj2" fmla="val 79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йчас можем рассчитывать на себя, родителей и друзей. Через пару лет,  возможно, можно будет рассчитывать на государ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549360"/>
            <a:ext cx="8280360" cy="1439640"/>
          </a:xfrm>
          <a:prstGeom prst="horizontalScroll">
            <a:avLst>
              <a:gd name="adj" fmla="val 12500"/>
            </a:avLst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кой степени материальная поддержка со стороны государ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олкнет молодых людей к рождению детей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916280"/>
            <a:ext cx="7994880" cy="1873080"/>
          </a:xfrm>
          <a:prstGeom prst="wedgeRoundRectCallout">
            <a:avLst>
              <a:gd name="adj1" fmla="val -3870"/>
              <a:gd name="adj2" fmla="val 74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ня государственная поддержка подтолкнет сильно (если это будет реальностью), но сейчас я должна знать, что у меня будет стабильная работа, потому что в данный момент я не могу рассчитывать на государство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516640"/>
            <a:ext cx="7850160" cy="936720"/>
          </a:xfrm>
          <a:prstGeom prst="wedgeRoundRectCallout">
            <a:avLst>
              <a:gd name="adj1" fmla="val 2861"/>
              <a:gd name="adj2" fmla="val -94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сударственная поддержка подтолнкет молодежь в небольшой степени, но она должна бы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1092240" cy="1670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0" y="3716280"/>
            <a:ext cx="1300320" cy="1735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88000" y="5589720"/>
            <a:ext cx="799920" cy="99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08720" y="4797360"/>
            <a:ext cx="7808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227640" y="5373720"/>
            <a:ext cx="77148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2924280"/>
            <a:ext cx="2449440" cy="1296720"/>
          </a:xfrm>
          <a:prstGeom prst="cloudCallout">
            <a:avLst>
              <a:gd name="adj1" fmla="val 44620"/>
              <a:gd name="adj2" fmla="val 86962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3141720"/>
            <a:ext cx="2449800" cy="1297080"/>
          </a:xfrm>
          <a:prstGeom prst="cloudCallout">
            <a:avLst>
              <a:gd name="adj1" fmla="val -30490"/>
              <a:gd name="adj2" fmla="val 126009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4508640"/>
            <a:ext cx="2449800" cy="1296720"/>
          </a:xfrm>
          <a:prstGeom prst="cloudCallout">
            <a:avLst>
              <a:gd name="adj1" fmla="val 80523"/>
              <a:gd name="adj2" fmla="val 46694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55640" y="2997360"/>
            <a:ext cx="1003320" cy="126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620640"/>
            <a:ext cx="7056360" cy="1584360"/>
          </a:xfrm>
          <a:prstGeom prst="wedgeRoundRectCallout">
            <a:avLst>
              <a:gd name="adj1" fmla="val -43115"/>
              <a:gd name="adj2" fmla="val 142685"/>
              <a:gd name="adj3" fmla="val 16667"/>
            </a:avLst>
          </a:prstGeom>
          <a:solidFill>
            <a:srgbClr val="ffdb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условия необходимо создать для молодых, чтобы они рожали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8497800" cy="63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476280"/>
            <a:ext cx="4751640" cy="2592360"/>
          </a:xfrm>
          <a:prstGeom prst="wedgeRoundRectCallout">
            <a:avLst>
              <a:gd name="adj1" fmla="val 72921"/>
              <a:gd name="adj2" fmla="val 362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инансовая помощь от государства подтолкнет, но нужно найти рычаги, которые позволили бы исключить рождение детей только ради получения материальных бла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1282680" cy="1947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109224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43280" y="3141720"/>
            <a:ext cx="5400720" cy="1944720"/>
          </a:xfrm>
          <a:prstGeom prst="wedgeRoundRectCallout">
            <a:avLst>
              <a:gd name="adj1" fmla="val -81069"/>
              <a:gd name="adj2" fmla="val 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териальная поддержка государства, если ее вообще можно назвать поддержкой, на данный момент только отталкивает от мысли о рождении ребе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03280" y="5300640"/>
            <a:ext cx="5977080" cy="1081080"/>
          </a:xfrm>
          <a:prstGeom prst="wedgeRoundRectCallout">
            <a:avLst>
              <a:gd name="adj1" fmla="val -60675"/>
              <a:gd name="adj2" fmla="val -94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думаю, государство подтолкнет, если будет оплачивать декрет даже не работающим женщин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32000" y="907920"/>
            <a:ext cx="5256360" cy="2665440"/>
          </a:xfrm>
          <a:prstGeom prst="wedgeRoundRectCallout">
            <a:avLst>
              <a:gd name="adj1" fmla="val -72351"/>
              <a:gd name="adj2" fmla="val -1045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сударственные 250 тысяч - это просто насмешка. На это пойдут только не очень дальновидные лю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3645000"/>
            <a:ext cx="5473440" cy="2879640"/>
          </a:xfrm>
          <a:prstGeom prst="wedgeRoundRectCallout">
            <a:avLst>
              <a:gd name="adj1" fmla="val 74157"/>
              <a:gd name="adj2" fmla="val -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верняка появится целое поколение «двухсотпятидесятитысячников». Пусть лучше мы сами решим, что мы хотим быть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21383400">
            <a:off x="684360" y="1197000"/>
            <a:ext cx="1172880" cy="1814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rot="413400">
            <a:off x="7380000" y="4292640"/>
            <a:ext cx="1236600" cy="1876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812000" y="623736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16360" y="4365720"/>
            <a:ext cx="5616360" cy="1800000"/>
          </a:xfrm>
          <a:prstGeom prst="wedgeRoundRectCallout">
            <a:avLst>
              <a:gd name="adj1" fmla="val -69504"/>
              <a:gd name="adj2" fmla="val 137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держка государства подтолкнет в большой степени. Ведь содержание ребенка - это деньг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692280"/>
            <a:ext cx="7056360" cy="2663640"/>
          </a:xfrm>
          <a:prstGeom prst="wedgeRoundRectCallout">
            <a:avLst>
              <a:gd name="adj1" fmla="val 35893"/>
              <a:gd name="adj2" fmla="val 600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того, чтобы завести ребенка, прежде всего, необходима жилплощадь для молодой семьи, ну а затем уже пособие для мамы ребенка, только реально сопоставляемое с ценами на сегодняшний день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93080" y="2421000"/>
            <a:ext cx="1046160" cy="1587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165320" cy="176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425600" cy="2163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16360" y="4365720"/>
            <a:ext cx="5832360" cy="2016000"/>
          </a:xfrm>
          <a:prstGeom prst="wedgeRoundRectCallout">
            <a:avLst>
              <a:gd name="adj1" fmla="val -68782"/>
              <a:gd name="adj2" fmla="val 69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повышения рождаемости скорее важно отношение в обществе к этому, нужно создать «моду» на рождение де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92280"/>
            <a:ext cx="7056360" cy="2663640"/>
          </a:xfrm>
          <a:prstGeom prst="wedgeRoundRectCallout">
            <a:avLst>
              <a:gd name="adj1" fmla="val 35893"/>
              <a:gd name="adj2" fmla="val 600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думаю, что низкая рождаемость - это только материальная проблема. Деньги - это не гарантия рождаемости. По-моему, основная проблема лежит в сегодняшней семье, отношении общества к бра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164360" y="2421000"/>
            <a:ext cx="1233360" cy="1886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740720" y="6168960"/>
            <a:ext cx="10620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549360"/>
            <a:ext cx="7562880" cy="2592360"/>
          </a:xfrm>
          <a:prstGeom prst="wedgeRoundRectCallout">
            <a:avLst>
              <a:gd name="adj1" fmla="val 37449"/>
              <a:gd name="adj2" fmla="val 58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ринципе, подтолкнула бы гарантия со стороны государства на бесплатную (качественную) медицину и (качественное) образование (минимум до 18 лет) для детей. Непосредственные денежные выплаты (единовременные и ежемесячные), мне кажется, имеют не очень большое значе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96360" y="2133720"/>
            <a:ext cx="1152360" cy="1726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7920" y="2133720"/>
            <a:ext cx="1090440" cy="1668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4360" y="3500280"/>
            <a:ext cx="7488000" cy="3097440"/>
          </a:xfrm>
          <a:prstGeom prst="wedgeRoundRectCallout">
            <a:avLst>
              <a:gd name="adj1" fmla="val -39273"/>
              <a:gd name="adj2" fmla="val -610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того, чтобы рождение ребенка стало реальностью, необходима адекватная медицина на муниципальном уровне, возможность купить страховку и получить всестороннее качественное обслуживание. Без очередей, без «благодарения» врачей в конвертах, без бесконечных поисков нормального врача по знакомым, без катастрофических очередей в местной поликлиник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740720" y="6165720"/>
            <a:ext cx="113508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24360" y="3068640"/>
            <a:ext cx="1279440" cy="1957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71640" y="549360"/>
            <a:ext cx="7129440" cy="2519280"/>
          </a:xfrm>
          <a:prstGeom prst="wedgeRoundRectCallout">
            <a:avLst>
              <a:gd name="adj1" fmla="val 37708"/>
              <a:gd name="adj2" fmla="val 62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достойной помощи государства родителям, они (родители) быстрее решатся на рождение ребенка. В государстве политика должна быть ориентирована именно на социальную сфер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653000"/>
            <a:ext cx="7488000" cy="1944720"/>
          </a:xfrm>
          <a:prstGeom prst="wedgeRoundRectCallout">
            <a:avLst>
              <a:gd name="adj1" fmla="val -3763"/>
              <a:gd name="adj2" fmla="val -72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ка нет уверенности в завтрашнем дне, рожать не будут. Каждый старается сначала обеспечить себе завтрашний день, а потом рожать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380360" y="2565360"/>
            <a:ext cx="1138320" cy="1741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885080" y="6237360"/>
            <a:ext cx="99072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211640" y="2997360"/>
            <a:ext cx="936720" cy="1152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11280" y="1484280"/>
            <a:ext cx="8281800" cy="1584360"/>
          </a:xfrm>
          <a:prstGeom prst="wedgeRoundRectCallout">
            <a:avLst>
              <a:gd name="adj1" fmla="val -2273"/>
              <a:gd name="adj2" fmla="val 129259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657000" cy="657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771480" cy="923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804000" y="2997360"/>
            <a:ext cx="809640" cy="99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340000" y="3357720"/>
            <a:ext cx="771480" cy="895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1116000" y="2637000"/>
            <a:ext cx="809640" cy="1228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2484360" y="5589720"/>
            <a:ext cx="790560" cy="1085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1403280" y="260280"/>
            <a:ext cx="809640" cy="905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003320" cy="1193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7956720" y="27082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2340000" y="476280"/>
            <a:ext cx="790560" cy="895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2"/>
          <a:stretch/>
        </p:blipFill>
        <p:spPr>
          <a:xfrm>
            <a:off x="6877080" y="4149720"/>
            <a:ext cx="771480" cy="1009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3"/>
          <a:stretch/>
        </p:blipFill>
        <p:spPr>
          <a:xfrm>
            <a:off x="4067280" y="5734080"/>
            <a:ext cx="799920" cy="961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4"/>
          <a:stretch/>
        </p:blipFill>
        <p:spPr>
          <a:xfrm>
            <a:off x="7451640" y="404640"/>
            <a:ext cx="771480" cy="895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5"/>
          <a:stretch/>
        </p:blipFill>
        <p:spPr>
          <a:xfrm>
            <a:off x="6300720" y="333360"/>
            <a:ext cx="7714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6"/>
          <a:stretch/>
        </p:blipFill>
        <p:spPr>
          <a:xfrm>
            <a:off x="3708360" y="260280"/>
            <a:ext cx="800280" cy="933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7"/>
          <a:stretch/>
        </p:blipFill>
        <p:spPr>
          <a:xfrm>
            <a:off x="3203640" y="3213000"/>
            <a:ext cx="790560" cy="895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8"/>
          <a:stretch/>
        </p:blipFill>
        <p:spPr>
          <a:xfrm>
            <a:off x="7740720" y="508464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9"/>
          <a:stretch/>
        </p:blipFill>
        <p:spPr>
          <a:xfrm>
            <a:off x="5580000" y="5661000"/>
            <a:ext cx="809640" cy="905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0"/>
          <a:stretch/>
        </p:blipFill>
        <p:spPr>
          <a:xfrm>
            <a:off x="3132000" y="4221000"/>
            <a:ext cx="78120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1"/>
          <a:stretch/>
        </p:blipFill>
        <p:spPr>
          <a:xfrm>
            <a:off x="1476360" y="3573360"/>
            <a:ext cx="762120" cy="943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2"/>
          <a:stretch/>
        </p:blipFill>
        <p:spPr>
          <a:xfrm>
            <a:off x="611280" y="3500280"/>
            <a:ext cx="771480" cy="933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3"/>
          <a:stretch/>
        </p:blipFill>
        <p:spPr>
          <a:xfrm>
            <a:off x="1619280" y="5734080"/>
            <a:ext cx="752400" cy="847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4"/>
          <a:stretch/>
        </p:blipFill>
        <p:spPr>
          <a:xfrm>
            <a:off x="2124000" y="4581360"/>
            <a:ext cx="781200" cy="962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5"/>
          <a:stretch/>
        </p:blipFill>
        <p:spPr>
          <a:xfrm>
            <a:off x="3995640" y="4365720"/>
            <a:ext cx="733680" cy="985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6"/>
          <a:stretch/>
        </p:blipFill>
        <p:spPr>
          <a:xfrm>
            <a:off x="5003640" y="404640"/>
            <a:ext cx="714600" cy="1009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7"/>
          <a:stretch/>
        </p:blipFill>
        <p:spPr>
          <a:xfrm>
            <a:off x="971640" y="4724280"/>
            <a:ext cx="790560" cy="962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8"/>
          <a:stretch/>
        </p:blipFill>
        <p:spPr>
          <a:xfrm>
            <a:off x="3203640" y="5300640"/>
            <a:ext cx="752400" cy="905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9"/>
          <a:stretch/>
        </p:blipFill>
        <p:spPr>
          <a:xfrm>
            <a:off x="4859280" y="5157720"/>
            <a:ext cx="733320" cy="1000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0"/>
          <a:stretch/>
        </p:blipFill>
        <p:spPr>
          <a:xfrm>
            <a:off x="5651640" y="4149720"/>
            <a:ext cx="1003320" cy="1260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1"/>
          <a:stretch/>
        </p:blipFill>
        <p:spPr>
          <a:xfrm>
            <a:off x="7740720" y="3933720"/>
            <a:ext cx="79992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2"/>
          <a:stretch/>
        </p:blipFill>
        <p:spPr>
          <a:xfrm>
            <a:off x="4788000" y="3860640"/>
            <a:ext cx="809640" cy="1229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3"/>
          <a:stretch/>
        </p:blipFill>
        <p:spPr>
          <a:xfrm>
            <a:off x="6659640" y="5445000"/>
            <a:ext cx="752400" cy="933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4"/>
          <a:stretch/>
        </p:blipFill>
        <p:spPr>
          <a:xfrm>
            <a:off x="5651640" y="3068640"/>
            <a:ext cx="799920" cy="866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5"/>
          <a:stretch/>
        </p:blipFill>
        <p:spPr>
          <a:xfrm>
            <a:off x="7667640" y="6143760"/>
            <a:ext cx="11350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ники Интернет – Дискусс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0 человек: 35 женщин и 15 муж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раст: от 16 до 2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ащиеся школ и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иентированы на профессиональны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еро состоят в бра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троих есть по одному ребе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10 регионо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404640"/>
            <a:ext cx="8496360" cy="5616720"/>
          </a:xfrm>
          <a:prstGeom prst="horizontalScroll">
            <a:avLst>
              <a:gd name="adj" fmla="val 12500"/>
            </a:avLst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каком возрасте должны зав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тей женщины и мужч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чему ты так считаеш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гда ты планируешь завести ребен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чему ты решил/а для себя именно т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1185840" cy="18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1189080" cy="180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692280"/>
            <a:ext cx="3240360" cy="1873080"/>
          </a:xfrm>
          <a:prstGeom prst="wedgeRoundRectCallout">
            <a:avLst>
              <a:gd name="adj1" fmla="val -10902"/>
              <a:gd name="adj2" fmla="val 102120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Я уже думаю об этом. Мои совместные с кем-то дела довольно успешны и мне этого хочется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Юноша, 2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11280" y="3645000"/>
            <a:ext cx="1211400" cy="1743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19640" y="4292640"/>
            <a:ext cx="4752720" cy="1873080"/>
          </a:xfrm>
          <a:prstGeom prst="wedgeRoundRectCallout">
            <a:avLst>
              <a:gd name="adj1" fmla="val -75148"/>
              <a:gd name="adj2" fmla="val 2120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Я собираюсь заводить ребенка в 27-28 лет. Сейчас не готова ни морально, ни материально. Сама в какой-то степени реб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евушка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22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765000"/>
            <a:ext cx="4321080" cy="2951280"/>
          </a:xfrm>
          <a:prstGeom prst="wedgeRoundRectCallout">
            <a:avLst>
              <a:gd name="adj1" fmla="val -69138"/>
              <a:gd name="adj2" fmla="val 55972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Я планирую родить ребенка в 27-30 лет. Именно так, потому что знаю, что я наберусь достаточно опыта, что буду иметь средства для обеспечения нормального детства ребенку, и в конце концов будет рядом любимый (!)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евушка, 16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667640" y="6093000"/>
            <a:ext cx="1063440" cy="37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ля того, чтобы завести ребенка,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дельное жи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абильную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ход о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юбим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ремя, чтобы проверить этого человека на надежность..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135640" cy="59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5964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08720" y="630864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73200" y="404640"/>
            <a:ext cx="1081080" cy="165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1378080" cy="2092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1773360"/>
            <a:ext cx="1214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24360" y="476280"/>
            <a:ext cx="3816360" cy="1366920"/>
          </a:xfrm>
          <a:prstGeom prst="wedgeRoundRectCallout">
            <a:avLst>
              <a:gd name="adj1" fmla="val -89726"/>
              <a:gd name="adj2" fmla="val 8537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То есть рожать именно НАДО, пока не успело пройти желание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700280"/>
            <a:ext cx="5688000" cy="2017800"/>
          </a:xfrm>
          <a:prstGeom prst="wedgeRoundRectCallout">
            <a:avLst>
              <a:gd name="adj1" fmla="val 69648"/>
              <a:gd name="adj2" fmla="val 10504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Чем ты моложе - тем легче относишься к жизни и не задумываешься о последствиях. Пока молод - живешь идеалами, мечтами и иногда находишь силы эти мечты сделать яв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3645000"/>
            <a:ext cx="5977080" cy="3024000"/>
          </a:xfrm>
          <a:prstGeom prst="wedgeRoundRectCallout">
            <a:avLst>
              <a:gd name="adj1" fmla="val -71037"/>
              <a:gd name="adj2" fmla="val 12361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Я соглашусь с предыдущим высказыванием: чем раньше тем меньше думаешь! Когда мне было 18 я умирала, как хотела дите, при чем тогда не было ничего! Ни нормальных жилищных условий, ни денег. Но хотелось так, что готова была пойти и родить. Прошло время и сейчас уже я говорю, что хочу родить в 26-28 лет, не раньше, потому что надо квартиру, машину, бизнес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89000"/>
            <a:ext cx="864072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596360" y="6237360"/>
            <a:ext cx="106344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60280"/>
            <a:ext cx="7777080" cy="6193080"/>
          </a:xfrm>
          <a:prstGeom prst="horizontalScroll">
            <a:avLst>
              <a:gd name="adj" fmla="val 12500"/>
            </a:avLst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Справедливо ли мн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современная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рожает детей пото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стала слишком мерканти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больше ценит собств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рьеру и благосостоя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м семью и детей?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12000" y="6191280"/>
            <a:ext cx="10638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532800">
            <a:off x="5651640" y="3860280"/>
            <a:ext cx="118872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1077400">
            <a:off x="2916000" y="1125360"/>
            <a:ext cx="1328760" cy="201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1311480" cy="208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67280" y="2060640"/>
            <a:ext cx="4321080" cy="1944720"/>
          </a:xfrm>
          <a:prstGeom prst="wedgeRoundRectCallout">
            <a:avLst>
              <a:gd name="adj1" fmla="val -69435"/>
              <a:gd name="adj2" fmla="val 23388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Я так не считаю просто, может, стали люди думать о будущем сами, и ни на кого не надеется. Разве это плохо?..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76280"/>
            <a:ext cx="2881440" cy="1368360"/>
          </a:xfrm>
          <a:prstGeom prst="wedgeRoundRectCallout">
            <a:avLst>
              <a:gd name="adj1" fmla="val -82287"/>
              <a:gd name="adj2" fmla="val 43967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Карьера – она ради благосостояния, а благосостояние - ради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924360" y="3573360"/>
            <a:ext cx="1185840" cy="180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4581360"/>
            <a:ext cx="3527280" cy="1800360"/>
          </a:xfrm>
          <a:prstGeom prst="wedgeRoundRectCallout">
            <a:avLst>
              <a:gd name="adj1" fmla="val 61069"/>
              <a:gd name="adj2" fmla="val -43652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Я хочу реализовать себя как женщина, то есть стать матерью, я хотела бы иметь большую семь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5084640"/>
            <a:ext cx="3959280" cy="1008360"/>
          </a:xfrm>
          <a:prstGeom prst="wedgeRoundRectCallout">
            <a:avLst>
              <a:gd name="adj1" fmla="val 3768"/>
              <a:gd name="adj2" fmla="val -78976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Для меня семья на первом мест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333360"/>
            <a:ext cx="2448000" cy="1081080"/>
          </a:xfrm>
          <a:prstGeom prst="wedgeRoundRectCallout">
            <a:avLst>
              <a:gd name="adj1" fmla="val -41310"/>
              <a:gd name="adj2" fmla="val 147064"/>
              <a:gd name="adj3" fmla="val 16667"/>
            </a:avLst>
          </a:prstGeom>
          <a:solidFill>
            <a:srgbClr val="d5f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а, и я тому приме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89000"/>
            <a:ext cx="864072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35280" y="2492280"/>
            <a:ext cx="136368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667640" y="6165720"/>
            <a:ext cx="106344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2:13:05Z</dcterms:created>
  <dc:creator>fpa</dc:creator>
  <dc:description/>
  <dc:language>en-US</dc:language>
  <cp:lastModifiedBy>fpa</cp:lastModifiedBy>
  <dcterms:modified xsi:type="dcterms:W3CDTF">2006-09-13T07:17:00Z</dcterms:modified>
  <cp:revision>5</cp:revision>
  <dc:subject/>
  <dc:title>Slide 1</dc:title>
</cp:coreProperties>
</file>